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4C00-7783-4450-993E-73BDBE653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80D7-6588-40F2-B9F4-92395D9F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4C615D-1188-4D3B-8806-47F37353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1C4704-CBCD-466B-A81A-D97EE082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96C42E-D309-427B-BE1F-4F22DCAD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245DC-4DE3-49E4-902D-41BFA7A0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EB142B-9169-46A3-AA5F-E5F12E0A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5A2473-DB2F-4B0D-8370-2E0C04E2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F9DACF-6D94-43E0-90B0-B69F6ABF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D3ED53-9555-4435-9FE4-6452B380B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3DCE4A-CAE9-4BD8-8DC0-9FDAFD6E4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41A9F2-08D1-4E33-BDA6-4130BFCC9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E375-759C-4F9F-94F0-785D8BDA5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484E49-9D51-48A7-BA3E-AE2F4BBB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84C443-61DE-46E6-802B-102397BA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D16F7B-DB0A-49DA-8AB7-BA03232F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230964-E010-4964-83E8-2F85D989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AC8AFE-2CEA-428B-90B7-25D9F8EC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AA6BD5-0070-4C90-B804-59A1F136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ABC8DF-1820-4913-860B-54B88B18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5AE45A-BF33-4F3F-B12C-97119ACA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4AA743-444F-4F61-9F82-0D1D0ECE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5DF028-8EAF-4650-B17C-1677E3CD2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08C9-2565-4AF3-9C62-959F6AC49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924C58-1CEC-4F29-98F4-5ECBC15DF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621567-28AD-49CD-A053-D0283BFDF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5E397-DC8C-4D6C-BA83-1F7EA853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8C836-D4ED-4C47-8B92-52A0C2D1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ACE12B-DB75-4D59-967E-21774CD9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4C1018-3BFA-4176-BD1A-9AC63BD1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2A908-9452-4124-BF99-98356624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48330-AA98-4AF7-80FB-907744F3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12ED2-D2DA-4790-B946-22BDDFFD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655CAB-C5B5-4EAC-ADD5-643AF6FE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AE58-C1F5-4401-A308-8CBED3BC2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2A626A-E596-424B-9A48-0FBE122B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2A348-24E4-4561-B0E8-60B8538C9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EF121-14F2-4058-B57D-21617CFFB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7FCE98-FE28-413C-97DB-8EF646D9A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4BFF0A-1F03-4AC6-88A2-1F1C8F60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B909C8-9D70-4797-A6CF-30143005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3DE805-80DF-497E-8EAD-9D79A6BD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5B4DFF-A9C0-40F8-8DF8-00EB792A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FE0E4E-7C2D-44B2-94EB-10B16547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34E501-077D-448B-ADE2-A194BCD8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291F-50D9-4413-96E7-9B9EF295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E63C53-B918-43A8-8106-E9D9E50A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DA4377-876F-4CCF-AC21-32B7D58A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70E071-738C-458C-BF0A-69266EDC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4134C2-3A54-4F00-B779-5572A70AB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83788A-E36F-4229-B476-3F34C4E58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23F5AD-5852-4066-B8B5-D45FDB9D9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72D586-56A9-41C5-9608-5AF9AC63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8D6D90-608F-47C0-8D6B-6E734046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8101A4-CC7F-484C-A999-0868360E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116D34-B085-42F6-89AF-7B6678F6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401B-9C23-4833-A693-36F9154E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10A59D-3DEC-4A92-AD75-D0B55C72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59C557-1D1C-47CF-B666-F9A2DECD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6D2DAD-F88D-4110-8BD9-ED06804D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E2698D-D187-4AA4-A547-3ADAC8BE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EAA393-5819-462F-8D14-E66F741D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0BCFBF-77D8-45C6-9FBA-100799EBB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33DF98-CBFA-4337-8DCA-A6AEBD48F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BA4AE0-AA9A-4E0D-B565-9B2F14019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9EAC44-D833-4AD8-AF34-6AAAA02D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00839F-D7EA-47DA-8227-170D2B21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D002-5DD9-4B6A-8BF9-F4752464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22EB6A-8B8E-4F2B-89D0-83E8C0D6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6865E2-F02C-4FA2-8A9A-3DB8169B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BE4FB5-85BD-45EE-842A-C7F8B28C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F2687E-C18E-4187-BFB6-33BFEA6C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515D09-C45D-49BC-A2DE-F621CF0E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59E877-2988-43C6-B39A-A649F93F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B4DC8C-8432-4D18-8806-EAAA1B6B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DE4961-A587-49F5-A73B-CFB3F9729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E5CB26-38BD-4199-B6D5-4DEC85AD5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313A6F-F9CC-49B8-ACD1-BB9DDBD2F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8B76-749F-4DDE-91B5-4F9A5686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BA2C36-B3A0-432E-9FED-8E94E55A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C14813-7508-4DE5-B387-A448A85F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7848EE-09F9-4370-BC1C-960369C2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F742D5-49A6-415A-855F-486C1E2A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EB0CE4-071E-40F9-943F-4924B6CE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357598-9E93-4462-9879-878348B3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F0F864-6F52-43C3-B8EB-62FD3EAE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62FF42-863E-4029-BE65-88AA145D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27277E-D821-4FE8-97FE-71AF0A1E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173399-F4BE-473A-8759-5399EF479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A8DD-1DEF-48ED-85AC-037227B6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5F9F0F-C363-4B10-BCEA-22A897275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D9BB86-738E-408F-97A3-A47E90919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1DAB6D-6A17-4968-AB78-668D61F2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F5AD27-A91A-4E62-BE0D-15B25DDD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0CFE20-1F6F-4A9D-8C9C-B7354802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42F325-DCBD-40F5-AEF6-EFE549E2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1B2EF6-23C7-4C61-99FC-C1551B9A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F40478-205E-4AF7-99D1-13A0FBEF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D0AC36-E40A-4EE3-BE8E-C5A4C065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0DD59D-23E3-41A9-9861-5D15F493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2A7E-F0BE-4861-86DF-9A33989E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6141DA-38F2-4488-A5E4-F42633F2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DC64DB-006C-4769-93CD-207F71B74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2C6DAA-BFF3-4A68-9817-886FB77F0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68A5DC-9951-4144-856F-9895BA407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411BBE-C36E-40E6-B3FF-FFCCDD98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FFE976-3366-48DE-9AA4-F4CCC6A9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8A98DC-630D-4AFA-AE6A-0A493B7A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3660F2-E164-4A36-9F24-9921965F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268E1C-87CA-4FAC-A2DC-3D753E91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E6A5C2-4C68-496B-9C4A-9133FF64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059D-D549-4840-BC62-13C32772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1F1FD-B6EC-432E-9040-34AB3EA3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390076-83D9-414D-B003-13F87994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F3FF6C-6AAF-4E86-9864-12D628D6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FD4C24-3518-4929-A8EA-84DCB6E6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B68575-5DE1-4DA0-9FF2-4CB72D555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5522F4-7677-4848-8BF2-2B013772F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41C6D0-F1AE-42A9-9581-71C452553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608649-EF65-4676-ADF5-88F596DA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554FCF-E2C1-416F-88D2-6AD49DA1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8E6786-84F8-485E-9640-DD1DCE9E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F7C9D2-7A36-4A1C-B7EE-3E61F1A8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186A-0EF0-4DD7-BA36-70FB8272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273722-8D83-4695-BAEA-49B0CACC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E2A261-F077-44B7-8791-049A86AB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B25661-1D5F-49E2-87D4-F6E8A134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F6A151-1032-412D-B4D5-2D9B336C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E8B0DA-28A2-470E-B680-236A3AFB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42C047-742A-4DB0-ACDF-BE27FA90E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D09212-00FE-4A8C-AB8C-6AF3267F4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9BFB02-4D00-4F8E-8A46-0F087F55D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E32995-43EA-4A99-91D1-D8CD4983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5D4FBA-415A-4296-8D40-83AFF93D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2D2F3-FE68-47D6-9197-528921EA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63D115-DFA9-430E-A7CE-C553E547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8E7EDE-EADD-4C44-9F99-5A8ABC29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9B223C-47A3-4C5E-B6D8-46244B6D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0757E1-6AE3-4C2F-97D0-B165B366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3C9868-C13E-4F95-807C-0DE246FA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64DC48-495B-4209-9972-F441E7CF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174CBD-5566-490F-9BD5-A9790FB2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5C1369-AB28-42DB-A66A-85F3EE21E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B6EBA8-CBEF-45F0-B2EE-DB9E43137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594F21-168B-4ECB-B3DD-22866F294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57EE-F6DA-42A1-B7A9-1C2BFAEDD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606B7A-AF3E-4C9B-A3F3-DB986C6B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6E601D-58CA-40E9-ACEE-E8D03CCA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B94129-BC07-4BE6-BCF0-AB9AFE86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289F57-415D-4B26-B96D-E8E445DC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AB3425-FE92-4C6F-A47D-D7AF4CF5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08D3C0-A862-4AE9-AEB2-DC05DB45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43AE7B-406D-4470-B6B2-A5100E12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C3DFFF-FCDA-4F74-867B-C9288718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C64C4F-EC66-4AD4-951F-38AD8656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25E5E7-AB44-4D01-8199-1974B35BE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DF78-5225-4DC4-84D5-4F4731295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28F387-4585-499C-B681-4F901D3E9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12090B-7263-4F4A-8216-1B09591D7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C78EBD-F67D-4A14-B46B-31859418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5A7686-EECB-4C04-AFC9-13AB62A8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F39AF4-6D67-498D-A1DF-B666D234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2CAB67-B90E-4CFB-8DDF-A69B5BB1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D95770-75C0-40AE-9741-EC64E1EB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B480DF-2844-4B91-BC39-F6A8E9DF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202C65-B67D-42F3-AB83-950774E7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A1E2E1-85F4-48B3-B7DC-1C83D45F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21510-A8FD-4DF1-B5CD-BCD73EBE0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593084-D17D-4F5F-904A-9ECF30B2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1F8BF2-9A0D-4308-AB99-B41B1B071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AB9B04-4EF0-44C2-874C-712DA9737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9DD10C-D51E-4F14-A6BC-B7EDA4E62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66F383-C441-47BD-A852-F7575369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341334-8DFC-4FF1-867B-E0AC2E7D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5FC51C-812C-4C8F-8667-5ADAF924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72D222-03C4-4DC6-B65B-DA6E8B61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AA87A1-AEEC-4962-88C8-7A61B588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BEDDDB-4C1F-4057-B4C9-03CEC41B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49D15-EF53-4079-AB7C-79F4D904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75377C-DA5E-4AE6-848C-5DC2DFB8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C07B54-E545-4694-ADBC-34B8C048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5E4611-4F5D-4C77-B61C-58835C2B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36B3B6-F52E-4D18-8E78-5C515FAE9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035EEA-449D-47D0-8F3F-97D7A8AF5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90A6D-CCCD-4A1C-8C86-FC19DFF9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CDF88-47CD-4C6E-8F82-73A6BE0D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8A7DB-EAD3-48A8-A6B5-4364E5EB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4D70-752B-405A-95AA-78BF220C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9E1CC-5C2C-4D90-8504-3C67CA7B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3F0E2-A86B-4E6B-92CB-FDEA1556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A5606-6BBC-4C31-B156-80495263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F6C66-0B1B-4F12-BA5E-D62F3466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065A9-4B8D-43A8-8306-12DED859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56C8C-E368-4094-A684-9321A1436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32C84-0E5E-4CBB-B623-4104683DA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6ADB0-986F-4F9E-9860-F45FC98D9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6D112-38C6-4C70-B0D8-F45B5376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34C7E-A932-4A8E-AA30-14A5A4F9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5717-C570-4F99-85DB-3C7E7553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111BC-3F9B-4FB0-8D94-BE1811DB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F9857-841E-4E22-9679-BBE7D9B2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C3A06-ED9C-4158-9C3B-E17C504D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89033-6B84-42F4-9740-D1E20F3A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09FA4-3EF8-40D0-9DDF-5C792BC3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030F0-5B43-4F06-8D7B-C2235F3B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818BE-8B9F-476E-910E-4E81890CB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FA555-B003-4CF1-92EE-6A280A746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277AD-6F5C-4714-B8F7-626C273DB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E6144-0CB1-4BCB-86A7-0D2183C3C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C922-4071-4B1E-AC8A-5153029E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C25EE-5E22-4251-A9FA-CFB397D4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32A60-9B78-4937-89F7-2BA6801E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8DFE3-6678-4DBC-B904-98FAD309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F87A1-ED1C-40E6-A5BA-157CAA68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70013-E61A-4295-A1DF-BE0E1CE6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0ECDA-7575-44C9-A489-8CEA42BC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4506B-7EC7-4598-95BD-0F11D169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2E47D-22D4-4224-B5A0-645746C7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E2A56-4432-45D6-988F-A696F3BE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BD05D-21A3-46BE-A3B3-DF0BBA36D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EF55-38AC-4F2C-94C7-83246102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B6B56-9517-4310-BCD7-B6493C706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9F96D-01E5-49DA-99E9-DA0738EA6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12E57-BF7F-405A-9535-368C256F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C3844-A2FA-4049-90FC-C49C069E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9B283-87F4-4F95-BE1F-796E4DFD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05479-D87D-4511-8CDB-DCB45987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26DFD-33B9-4BE5-AD3A-8E2DC519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D9D53-6380-412C-8302-B6BDC5A4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36930-0723-43F8-B248-4938F1DC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F50D4-9811-4237-AC88-41D2FB9D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5B35-4450-4379-A6B9-694A13DD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763D3-56CE-4528-805B-1E703593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DDFD0-F05C-49E4-9E1D-307497BDF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D9890-FFBF-4FA8-8518-0C39FE83A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98B48-B9A5-40CC-A1AF-24710192F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9ECAA-0FE5-46D9-BD4A-DEAC0718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4645A-4EA3-423F-B2FA-356DB319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B83E4-C1A8-4B56-B323-7B2B2A83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E7737-BC0B-4EFF-8E54-3DD14FB3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35787-2DDB-46B4-A342-DFCC58E0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2C30B-BD8B-416C-8BBC-7550C120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C9A1-17E5-49EA-B15A-D820CBBF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054A8-94FF-4D41-B81F-00352F04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343B6-CC49-4FAA-B438-6D6D5D3F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B3B24-C88D-4C74-9488-AE7325B2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AA7DD-0D22-4533-92A2-04055314A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B427D-3704-4F1F-91FC-9F89F60E0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B5136-D283-43EA-963D-268F764F3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BE765-0719-498D-BF9E-F1952D81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25FE9-911A-4515-9C0E-8EF23B3F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297FE-8086-46E7-A577-E20BC0C8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B1B75-8C4D-430B-A503-B1B2E79B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A7F1-6F39-4186-A75D-952C826E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774BF-599C-42FD-B281-5D7002DE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4109C-F529-4C60-B475-271A1166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842A0-B1DE-46F6-B1EB-07947E3F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AFC79-509D-47AD-9626-27B8044A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D7AA4-3D95-47FF-AED8-279142B6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6BD4D-213B-4C5F-9583-CB5275F8D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D432C-B760-41E5-9368-7992D3043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C4F1DD-1F05-4C2A-911C-62E1CFE19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83B58-059E-43F1-8760-1CF6184A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19FF26-9874-42C6-B87A-70AF5599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EA66-964F-4821-8AF3-59744C7D95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89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034C-ADE0-4568-8E36-3BD72E952C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75AA-D0FC-41FE-87C8-38B93CF8F0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3ECD-4AD8-4546-8924-217347DF7B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FFC3-B7D4-4C5C-9070-1E0D98B35A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CF7B-120C-48C6-B84B-C47FA05653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AEB8-7B39-4A8C-A3DB-5E7BE79984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9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44B1-DEC1-4673-8E0C-FEC140F8DE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CCEB-5A01-4EF7-A9AB-56903634F5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E65F-330C-4F20-9CC9-2AB9BD4E5A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8C94-76A8-4378-A671-30FB6CA899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2906-3D26-487D-AD86-1328A58A74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8BF2-97DF-4A0D-8E19-CA5561190C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1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2E58-C979-4117-964B-6DB11C84A6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58F9-A286-47D3-B0BF-9C9EABB5C8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6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26A8-00DC-4848-9C6A-6B12734D51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1A83-DF45-46CB-8B3F-4674EBBB79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03A3-0E63-45A4-B357-942F21B0D8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D557-DBA9-45B4-9778-A50C519B6F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7CE9-C649-46E9-BE74-368089D93D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898F-023D-42CB-AA5C-7C0EC19062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8F96-F24F-4608-89DB-722D6B62262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922E-5496-4586-BE1B-69D9ADF38F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97F0-EBBB-4694-9F27-AE3DD09816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5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D8A7-75C2-4A4D-A99E-6BBB732807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D007-2220-48B6-B2FB-11A887AD87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20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C6B0-287F-459A-B50A-F922CA3E49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AB2B-198F-4B8F-9788-0AE148C4C3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4E92-388A-4F7F-BEBF-953DC59EA1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76F4-88F1-4057-8DAD-AFC3E2122D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C53D-7B60-4748-8711-54A98A6C9B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69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3974-2E98-464F-8FE3-D598C4A6BC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2BCF-6CEB-482A-846A-EF5381C5B8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076C-F127-468D-B2AB-CC87E23C62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938E-DF8C-45BF-9CAB-5E091F77CC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90D7-D1F3-47F1-BFD5-3B180E213F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3149-19DF-4E3B-86DD-59BC2B6750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7BD8-2217-411D-8517-EA7AEE6B50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1556-463D-4C67-93F5-089012841A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E05C-4AF8-4979-B621-E637B3B301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43FD-1FB2-43C7-B52F-A9945B36A3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5121" descr=""/>
          <p:cNvPicPr/>
          <p:nvPr/>
        </p:nvPicPr>
        <p:blipFill>
          <a:blip r:embed="rId1"/>
          <a:stretch/>
        </p:blipFill>
        <p:spPr>
          <a:xfrm>
            <a:off x="2219400" y="3138480"/>
            <a:ext cx="470520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6145" descr=""/>
          <p:cNvPicPr/>
          <p:nvPr/>
        </p:nvPicPr>
        <p:blipFill>
          <a:blip r:embed="rId1"/>
          <a:stretch/>
        </p:blipFill>
        <p:spPr>
          <a:xfrm>
            <a:off x="352440" y="1066680"/>
            <a:ext cx="8439120" cy="4724640"/>
          </a:xfrm>
          <a:prstGeom prst="rect">
            <a:avLst/>
          </a:prstGeom>
          <a:ln w="0">
            <a:noFill/>
          </a:ln>
        </p:spPr>
      </p:pic>
      <p:pic>
        <p:nvPicPr>
          <p:cNvPr id="964" name="图片 6146" descr=""/>
          <p:cNvPicPr/>
          <p:nvPr/>
        </p:nvPicPr>
        <p:blipFill>
          <a:blip r:embed="rId2"/>
          <a:stretch/>
        </p:blipFill>
        <p:spPr>
          <a:xfrm>
            <a:off x="2843280" y="3557520"/>
            <a:ext cx="1247760" cy="4669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2268360" y="2997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4"/>
          <a:stretch/>
        </p:blipFill>
        <p:spPr>
          <a:xfrm>
            <a:off x="4643280" y="2997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5"/>
          <a:stretch/>
        </p:blipFill>
        <p:spPr>
          <a:xfrm>
            <a:off x="6948360" y="301140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68" name="图片 6150" descr=""/>
          <p:cNvPicPr/>
          <p:nvPr/>
        </p:nvPicPr>
        <p:blipFill>
          <a:blip r:embed="rId6"/>
          <a:stretch/>
        </p:blipFill>
        <p:spPr>
          <a:xfrm>
            <a:off x="6070680" y="3543480"/>
            <a:ext cx="1247760" cy="46656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7"/>
          <a:stretch/>
        </p:blipFill>
        <p:spPr>
          <a:xfrm>
            <a:off x="2166840" y="536400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8"/>
          <a:stretch/>
        </p:blipFill>
        <p:spPr>
          <a:xfrm>
            <a:off x="4140360" y="535932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9"/>
          <a:stretch/>
        </p:blipFill>
        <p:spPr>
          <a:xfrm>
            <a:off x="5983200" y="465300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0"/>
          <a:stretch/>
        </p:blipFill>
        <p:spPr>
          <a:xfrm>
            <a:off x="7754760" y="5373720"/>
            <a:ext cx="287640" cy="2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3" name="图片 7169" descr=""/>
          <p:cNvPicPr/>
          <p:nvPr/>
        </p:nvPicPr>
        <p:blipFill>
          <a:blip r:embed="rId1"/>
          <a:stretch/>
        </p:blipFill>
        <p:spPr>
          <a:xfrm>
            <a:off x="243000" y="1628640"/>
            <a:ext cx="8658000" cy="360072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2"/>
          <a:stretch/>
        </p:blipFill>
        <p:spPr>
          <a:xfrm>
            <a:off x="826920" y="2722680"/>
            <a:ext cx="505080" cy="31896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3"/>
          <a:stretch/>
        </p:blipFill>
        <p:spPr>
          <a:xfrm>
            <a:off x="826920" y="3745080"/>
            <a:ext cx="505080" cy="31896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4"/>
          <a:stretch/>
        </p:blipFill>
        <p:spPr>
          <a:xfrm>
            <a:off x="812880" y="4221000"/>
            <a:ext cx="504720" cy="3193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5"/>
          <a:stretch/>
        </p:blipFill>
        <p:spPr>
          <a:xfrm>
            <a:off x="1446120" y="3255840"/>
            <a:ext cx="505080" cy="3193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6"/>
          <a:stretch/>
        </p:blipFill>
        <p:spPr>
          <a:xfrm>
            <a:off x="1432080" y="4768920"/>
            <a:ext cx="504720" cy="3189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7"/>
          <a:stretch/>
        </p:blipFill>
        <p:spPr>
          <a:xfrm>
            <a:off x="2081160" y="4221000"/>
            <a:ext cx="504720" cy="31932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8"/>
          <a:stretch/>
        </p:blipFill>
        <p:spPr>
          <a:xfrm>
            <a:off x="2700360" y="4738680"/>
            <a:ext cx="504720" cy="31896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9"/>
          <a:stretch/>
        </p:blipFill>
        <p:spPr>
          <a:xfrm>
            <a:off x="3333600" y="4724280"/>
            <a:ext cx="505080" cy="31932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10"/>
          <a:stretch/>
        </p:blipFill>
        <p:spPr>
          <a:xfrm>
            <a:off x="3967200" y="4724280"/>
            <a:ext cx="504720" cy="31932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11"/>
          <a:stretch/>
        </p:blipFill>
        <p:spPr>
          <a:xfrm>
            <a:off x="5105520" y="3255840"/>
            <a:ext cx="504720" cy="31932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12"/>
          <a:stretch/>
        </p:blipFill>
        <p:spPr>
          <a:xfrm>
            <a:off x="5722920" y="3730680"/>
            <a:ext cx="504720" cy="31896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13"/>
          <a:stretch/>
        </p:blipFill>
        <p:spPr>
          <a:xfrm>
            <a:off x="5724360" y="4249800"/>
            <a:ext cx="505080" cy="31896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" descr=""/>
          <p:cNvPicPr/>
          <p:nvPr/>
        </p:nvPicPr>
        <p:blipFill>
          <a:blip r:embed="rId14"/>
          <a:stretch/>
        </p:blipFill>
        <p:spPr>
          <a:xfrm>
            <a:off x="6357960" y="4724280"/>
            <a:ext cx="504720" cy="31932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" descr=""/>
          <p:cNvPicPr/>
          <p:nvPr/>
        </p:nvPicPr>
        <p:blipFill>
          <a:blip r:embed="rId15"/>
          <a:stretch/>
        </p:blipFill>
        <p:spPr>
          <a:xfrm>
            <a:off x="6991200" y="4221000"/>
            <a:ext cx="505080" cy="31932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" descr=""/>
          <p:cNvPicPr/>
          <p:nvPr/>
        </p:nvPicPr>
        <p:blipFill>
          <a:blip r:embed="rId16"/>
          <a:stretch/>
        </p:blipFill>
        <p:spPr>
          <a:xfrm>
            <a:off x="7610400" y="4754520"/>
            <a:ext cx="50508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9" name="组合 8197"/>
          <p:cNvGrpSpPr/>
          <p:nvPr/>
        </p:nvGrpSpPr>
        <p:grpSpPr>
          <a:xfrm>
            <a:off x="852480" y="1542960"/>
            <a:ext cx="7439040" cy="3772080"/>
            <a:chOff x="852480" y="1542960"/>
            <a:chExt cx="7439040" cy="3772080"/>
          </a:xfrm>
        </p:grpSpPr>
        <p:pic>
          <p:nvPicPr>
            <p:cNvPr id="990" name="图片 8193" descr=""/>
            <p:cNvPicPr/>
            <p:nvPr/>
          </p:nvPicPr>
          <p:blipFill>
            <a:blip r:embed="rId1"/>
            <a:stretch/>
          </p:blipFill>
          <p:spPr>
            <a:xfrm>
              <a:off x="852480" y="1542960"/>
              <a:ext cx="7439040" cy="377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1" name="图片 8196" descr=""/>
            <p:cNvPicPr/>
            <p:nvPr/>
          </p:nvPicPr>
          <p:blipFill>
            <a:blip r:embed="rId2"/>
            <a:stretch/>
          </p:blipFill>
          <p:spPr>
            <a:xfrm>
              <a:off x="2583000" y="2593800"/>
              <a:ext cx="5667120" cy="1133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92" name="Picture 1" descr=""/>
          <p:cNvPicPr/>
          <p:nvPr/>
        </p:nvPicPr>
        <p:blipFill>
          <a:blip r:embed="rId3"/>
          <a:stretch/>
        </p:blipFill>
        <p:spPr>
          <a:xfrm>
            <a:off x="2700360" y="3933720"/>
            <a:ext cx="358920" cy="319320"/>
          </a:xfrm>
          <a:prstGeom prst="rect">
            <a:avLst/>
          </a:prstGeom>
          <a:ln w="0">
            <a:noFill/>
          </a:ln>
        </p:spPr>
      </p:pic>
      <p:sp>
        <p:nvSpPr>
          <p:cNvPr id="993" name="圆角矩形 8198"/>
          <p:cNvSpPr/>
          <p:nvPr/>
        </p:nvSpPr>
        <p:spPr>
          <a:xfrm>
            <a:off x="2771640" y="2637000"/>
            <a:ext cx="3240360" cy="1079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4" name="Picture 1" descr=""/>
          <p:cNvPicPr/>
          <p:nvPr/>
        </p:nvPicPr>
        <p:blipFill>
          <a:blip r:embed="rId4"/>
          <a:stretch/>
        </p:blipFill>
        <p:spPr>
          <a:xfrm>
            <a:off x="6877080" y="393372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95" name="图片 8200" descr=""/>
          <p:cNvPicPr/>
          <p:nvPr/>
        </p:nvPicPr>
        <p:blipFill>
          <a:blip r:embed="rId5"/>
          <a:stretch/>
        </p:blipFill>
        <p:spPr>
          <a:xfrm>
            <a:off x="3938760" y="2724120"/>
            <a:ext cx="8571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3:02:56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